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png" ContentType="image/png"/>
  <Override PartName="/ppt/media/image29.wmf" ContentType="image/x-wmf"/>
  <Override PartName="/ppt/media/image11.png" ContentType="image/png"/>
  <Override PartName="/ppt/media/image48.wmf" ContentType="image/x-wmf"/>
  <Override PartName="/ppt/media/image13.wmf" ContentType="image/x-wmf"/>
  <Override PartName="/ppt/media/image30.wmf" ContentType="image/x-wmf"/>
  <Override PartName="/ppt/media/image5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6.png" ContentType="image/png"/>
  <Override PartName="/ppt/media/image47.wmf" ContentType="image/x-wmf"/>
  <Override PartName="/ppt/media/image4.png" ContentType="image/png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8F6F-96AE-4EE8-B095-3F0F1784E15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fsb.unizg.hr/atlantis/upload/newsboard/01_01_2012__9063_Kontrola_kvalitete.pdf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crnarupa.singidunum.ac.rs/Elektronska%20biblioteka/I%20godina%202009%20-%2010/FIM/In&#382;enjerski%20menad&#382;ment/Osnove%20in&#382;enjerstva%20-%20Prof.%20dr%20Milenko%20Heleta/Osnove%20inzenjerstva%20-%20UDZBENIK.pdf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2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Krivokapic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5C6-DCF2-494C-8C43-18A4CFF7E8A0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incip se zasniva na nejednakoj raspodeli stvari u univerzumu. Ovaj princip tvrdi da 80% od celine vodi porekl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d značajne manjine, dok samo 20% vodi poreklo od trivijalne većin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o pravilo je postavio italijanski ekonomista Vilfredo Pareto u kasnom devetnaestom veku. Ustanovio je da je distribucija dobara u društvu neravnopravna: većinu novca je držao mali broj ljudi. Ovo pravilo je primenljivo i u drugim oblastima biznisa i, konačno, i u kontroli (i upravljanju) kvalit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sfak.ni.ac.rs/images/upload/Upis/MAS_prirpemna_n/uvod_u_m_-_pripremna/5._Alati_kvaliteta-Pareto_metoda.pdf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to dija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reto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valiteta koji služi za određiva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eta prilikom rešavanja problema i veoma je lak za primenu. Upotrebljav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d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rok nekog problema višestruk pa je potrebno odrediti gde će primenj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a imati najveći efekat. Nakon evidentiranja broja pojavljivanja izvesnih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ja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zroka problema) formira se histogram. Sređivanjem histograma u oblik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dajućeg niza može se uočiti na koji aspekt nekog problema treba prvo obrat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žnju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avilo ukazuje da se rešenjem 30% najvažnijih problema mož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ići 70% planiranog poboljšanja. Procenjivanjem efekata mogućih grešak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jivanje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sleda važnosti prilikom njihovog eliminisanja, mogu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no koristiti resursi i sa manjim ulaganjem postići dobri rezultati. Paret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 se koristi u sv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sistema kvaliteta gde je moguće identifikov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ške i troškove koji nastaju usled tih grešaka. Pravilo "70-30", ili "80-20"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alno pravilo koje nije no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građevinarstvo. Pravilo se može primen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likom procene troškova preko troškovno značajnih pozici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* 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ef.unibl.org/literatura/463876Vjezbe_-_Pareto_(ABC)_analiza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oji pomaže da se brzo uoči tip raspodele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orke koji sadrže veliki broj podataka. Izradi histograma prethodi: izručana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spona populacije, određivanje intervala klasa, izrada tabela učestalosti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đivanje granica klasa, sračunavanje središta klasa i određivanje učestal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brojavanjem uzorka. Na osnovu ovih podataka crta se histogram. Na osnov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gleda histograma donose se zaključci o statističkoj prirodi populaciji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i s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bro poznati iz matematičke statistike i imaju primenu u razn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planiranja u građevinarstvu (dinamički planovi angažovanja radn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ge i finansijskih sredstava …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jagram rasipanj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atter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jednostavan alat koji služi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vrđivanje stepena korelacije između dve promenljive. Dijagram rasipanj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uzet iz obla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matičke statistike. Korelacija može biti pozitivn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na. Koristi se prilikom analize korelacije između: karakteristike entitet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a koji utiču na nju, dv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akteristike kvaliteta ili dva faktora koji utiču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u karakteristiku. Uz dijagram rasipanja računa se koeficijent korelacije i kori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iona an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agram toka (flow chart) je osnovni alat kojim se analizira proces pre nego što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rimeni neka od složenijih tehnika kvaliteta. Dijagram toka je grafički prikaz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o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a procesa simbolima, pri čemu je važno da se obuhvate sve aktivnosti 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jihove ulazne i izlazne veličine. Analizom dijagrama toka mogu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ravilnos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vijanju procesa i mesta potencijalnih problema. Može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ija sa kartom tehnološkog procesa koja predstavlja polaznu tačku u analiz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i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đevinskih rado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stičko upravljanje proces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tistical Process Contr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se razvilo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novu kontrolnih karata i studija sposobnosti procesa. Kada se rezultati proces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laz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viru kontrolnih granica kontrolnih karti kaže se da je proces "pod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om". Međutim, i proces koji je "pod kontrolom" može proizvesti loš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izvode. Pra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 ogleda u ponovljivosti proces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glašenosi procesa sa zahtevima kupaca. Ova osobina procesa se nazi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sobnost procesa ili preciznije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sa procesa u toku izvesnog vrem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koji je proces pod kontrolom†. Studije sposobnost su zasnovane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antitativnim pokazateljima performans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, tzv. indeksima sposobn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. Pomoću studija sposobnosti se objektivno meri stepen u kome proce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dovoljava zahteve kupaca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leda u povećanju sposobnosti procesa, a statističk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avljanje procesom ima za cilj postizanje maksimalne sposobnosti procesa koj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"pod kontrolom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olovanom primenom statističke kontrole procesa se ne mogu eliminis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i, ali se mogu: pribaviti objektivne informacije o performansama procesa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zbed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cije za donošenje odluka o poboljšanju procesa kroz smanje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jacija i postići stabilnost pro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b.rs/blog/fmea-failure-mode-effect-analysis-aleksandar-teofilovi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razvila NASA sredinom šezdesetih godina prošlog veka za Apoll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metoda se koristi za identifikovanje potencijalnih nedostataka procesa i naknadnog postavljanja tih nedostataka na listu prioriteta na osnov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biljnosti (severity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pojavljivanja (occurance),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detektovanja (detection) tih nedostat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a ideja FMEA je da se istaknu slabosti kroz postavljanje liste prioriteta nedostataka u samom procesu, što se čini računanjem RPN broja. RPN broj je generisan broj zasnovan na FMEA formuli, što ukazuje na otkaze u sistemu koji zahtevaju hitnu pažnj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širem smislu FMEA metoda obuhvata sledeće kor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čiti pro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načine otkaza (Failure Mode) unutar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efekte svakog otkaza (Potential Failure Eff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ozbiljnost (Severity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pojavljivanja (Occurance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detektovanja (Detection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“Broj prioriteta rizika” tzv. RPN – Risk Priorit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irati rizike prema R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aktivnosti za umanjenje kritičnih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nove RPN sa umanjenim ili uklonjenim kritičnim otkaz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tehnika koja daje odgovor na pitanje: Šta može da otkaže; Kako otkazuje;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lik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čest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 otkazu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e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oji su efekti otkaz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Koje su posle otkazivanja po pouzdan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sigurnos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163-880A-495E-8AF3-F3D7B590F8CE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Stojadinović Zoran: Upravljanje kvalitetom na građevinskim projektima  (magistarska teza), Beograd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50F-9336-4414-BC61-7DB8BA48B0B6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 (Quality Function Deployment) se definiše kao: "sistem za prevođe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teva kupaca u odgovarajuće zahteve preduzeća na svim nivoima koji uključuj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zvoj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kovanje, proizvodnju, distribuciju, instalaciju, marketing, prodaju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lugu“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imenom QFD metode se zahtevi kupaca pretvaraju u konkret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zvoda, karekteristike delova proizvoda i karakteristika procesa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je u najširem smislu instrument planiranja. QFD treba razumeti kao stil rada,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ji se o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dicionalnog pristupa razlikuje u tri najvažnije karakteristike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o, zahtevi kupaca se pribavljaju i prikazuju putem niza grafikona koji svojim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gledom podsećaju na crtež kuće, po čemu su dobili ime "kuće kvaliteta". Čita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kumentacija rada se vodi u okviru kuća kvaliteta. Izgled kuća kvaliteta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unjuju tokom rada u skladu sa nivoom informacija o procesu sa kojim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polaže.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a kuća kvaliteta sadrži osnovne zahteve kupaca. Druga kuć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sadrži podatke o karakteristikama delova proizvoda. U trećoj kuć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za 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ova proizvoda treba definisati merodav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 procesa. U okviru četvrte kuće kvaliteta se razvijaju radna uputst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proced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ugo, koncept isporučilac-korisnik lanaca se primenjuje u potpunosti. Svak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 u okviru procesa ima svog isporučioca i korisnika sve do posled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i čiji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korisnik kupa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će, zbog upotrebe multidisciplinarnih timova, organizaciona ograničenja 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gledu funkcionalnih jedinica i vertikalnih linija komunikacije se prevazila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risti od primene QFD metode su: poboljšan kvalitet, povećano zadovoljstvo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paca, povećana produktivnost, smanjenje vremena i troškova za razvoj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iranje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oljšana komunikacija i dokumentacij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 proučavamo samo kuću kvaliteta sa aspekta metoda upravljanja kvalit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F732-69D2-4390-8E44-2D7AFF96D20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imjeri primjene QFD u gradjevinarstvu se mogu naci na sljedecim adres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FB5-B659-46F8-8908-758B499A3DF5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ISE O FAZAMA 2, 3 I 4 U LITERA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kupan posao u Fazi I podeljen je u 12 koraka, tako da se svaki korak svodi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njavanje po jednog polja u "kući kvaliteta". Na slici 5.10 je takođe prikaza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je se popunjava u kom koraku (pojedina polja su označena krugom i broje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sredini kruga, od 1 do 12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: U redove na levoj strani polja 1 se unose zahtevi kupaca (ŠTA kup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ju), grupisani po tematskim oblastima, a zatim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” uno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rednosti za prioritete navedene od strane kupaca, od 1-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2: U desni deo tabele sa nazivom “Upoređenje sa konkurencijom” unose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ci u vezi sa situacijom u pogledu konkurencije, sa aspekta kupca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cima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avlja pitanje, kako vide naš proizvod u poređenju 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ima važnih konkurenata, u pogledu ispunjavanja njihovih važn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; skala vrednovanja i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daciju 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3: U dodatne dve kolone (A i B) unose se dodatne napomene koje potiču iz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stvene kuće ili iz spoljnih izvora, kao što su podaci o garancij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tužbam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ebne aktivnosti konkurenata itd.; ove inform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ogućavaju da se shvate ponekad nejasna vrednovanja dobijena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a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4: Ovde QFD tim opisuje karakteristike proizvoda koje imaju uticaja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dovoljenje svakog od zahteva kupaca, unetih u polju 1 u koraku 1; 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ga se z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m rešenjima, već za karakteristikama koje kvalitativ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isuju zahteve kupaca; ovde se “glasovi kupaca” prevode u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zik proizvođača (KAKO zadovolji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e kupac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5: Za svaku KAKO karakteristiku unose se “Ciljne tehničke vrednosti”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nosno vrednosti pojedinih utvrđenih karakteristika da bi se zadovolj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i kupaca, pr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čemu se uzima u obzir stanje kod konkuren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6: Ovde se utvrđuje stepen korelacije između svakog ŠTA i svakog KAKO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što se svodi na odgovor na pitanje: “U kojoj meri karakteristika KA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ržava pojedin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 ŠTA kupca”; vrednovanje ima tri stepena: ja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elacija - 9, srednja - 3 i slaba -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7: Određuje se ukupni značaj pojedinih karakteistika, tako što se v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a koji kupci pridaju određenom ŠTA množi sa stepenom korel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og KAKO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a rezultata iz svake KAKO vrste unosi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 vrednosti kolone”, najpre sa apsolutnim vrednostima, a zatim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čunavaju relativne vrednosti (u %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8: Na osnovu unetih ciljnih vrednosti (korak 5), ispituje se u kom smeru semora menjati neka, na danas proizvedenom proizvodu već postojeć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9: U matrici krova kuće vrši se ispitivanje međusobne korelacije veliči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KO, uz uzimanje u obzir ciljnih vrednosti (korak 5) i smera prome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orak 8) pojedinih 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0: Ovde se vrši stručno upoređenje sopstvenog proizvoda, u pogled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, sa proizvodima vodećih konkurenata; skala vrednovanja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1: Unose se vrednosti za stepen složenosti (od 1-10), koji u stvaripredstavlja stepen mogućnosti realizacije poboljšanja konstrukcije 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ljnoj vrednos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2: Ovde se, eventualno, dodaju neke važne informacije, koje se nisu mogl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uhvatiti kroz prethodna polja u okviru “kuće kvaliteta”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ovođenjem ovih dvanaest koraka, prostori kuće su u potpunosti ispunjeni, sv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gatstvo znanja i ideja radne grupe prikazano je na razumljiv i pregledan način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"kuće kvaliteta". Zajednički rad na projektu omogućava opsežan transf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nja između različitih područja preduzeća, što pri uobičajenom načinu rada ne b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e. Ovaj način rada ne poboljšava samo međusobno razumevanje, već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z stalno popravljanje radne klime oživljava konstruktivnu saradnju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 kraju rad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faze I, tim se bavi izborom važnih i kritičnih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 koji imaju odlučujući značaj za realizovanje poboljšanja ili razvi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og proizvod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terijumi za izbor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 značaj zahteva kupaca/korisni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e šanse u poređenju sa konkuren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1-3 karakteristike sa izraženo visokim ukupnim značajem (A-kriterijum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visoku korelaciju sa najvažnijim zahtevima kupac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pozitivnu korelaciju u odnosu na druge kriterijume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vu kuć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takav stepen složenosti realizacije da ih je moguć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izova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omogućavaju prevazilaženje dosadašnjih probl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otrebne investicije su rentabil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66B-D6BD-4C82-849A-87A32AC07A64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JOAQUIN DELGADO-HERNANDEZ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ERINE ELIZABETH BAMPTON and ELAINE ASPINWAL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function deployment in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Management and Economics (June 2007) 25, 597–609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fzr.rs/Content/files/0/SIX%20SIGMA%20koncept%20za%20saj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05D-26CD-436F-9433-DD603A8603EA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a i posledica  (cause and effect diagram) je razvio tokijski  profesor Kaoru Išikava pedesetih godina i primenjuje se za utvrđivanje veze  između karakteristike entiteta i faktora koji na nju utiču. Koriste se kada na  rezultat nekog procesa utiče više faktora između kojih se mogu uspostaviti  uzročno-posledične veze. Po svom izgledu podseća na riblju kost pa se  često u  literaturi može naći pod tim imenom. Problem, ili neka karakteristika kvaliteta  koja se želi analizirati, je predstavljen "glavom" a potencijalni uzroci i poduzroci  problema predstavljeni su "kostima". Dijagram slikovito prikazuje međusobne  odnose između potencijalnih uzroka nekog problema, ili između komponenti neke  karakteristike kvaliteta. Sličan alat dijagramu riblje kosti je stablo greš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yvor:Milenko Heleta, Dragan Cvetkovic, Osnove inženjerstva i savremene metode u  inženjerstvu, Univerzitet Singidunum, Beograd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rnarupa.singidunum.ac.rs/Elektronska%20biblioteka/I%20godina%202009%20-%2010/FIM/In%C5%BEenjerski%20menad%C5%BEment/Osnove%20in%C5%BEenjerstva%20-%20Prof.%20dr%20Milenko%20Heleta/Osnove%20inzenjerstva%20-%20UDZBENIK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rijante i sinonimi naz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, dijagram riblja kost, pošto izgledom podseća na skelet 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vrha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istematično istraživanje svih mogućih uzroka koji su mogle dovesti do određenih posledica (efekata problema ili greša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is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 ili riblja kost jedan je od mnogih alata za menadžment i kvalitet koj je kreirao poznati japanski ekspert Kaoru Ishikawa. Kao i kod svake druge briljantne ideje, osnova riblje kosti je krajnje jednostavna i praktična. Dijagram uzrokposledica se koristi kao timski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at za provokaciju i iznošenje što više ideja mogućih uzroka koje mogu dovesti do posledica koje se istražuju. Nakon nekoliko iteracija analiza, dijagram identifikuje, u grafičkom obliku, primere svih mogućih uzroka pojedinih grešaka. Svi mogući uzroci se slažu na različite nivoe detaljizacije i spajaju se u grane. Nivo detalja raste kako se granjanje nastavlja, tako što je vanjska grana uvek uzrok za unutrašnju granu. To znači da su vanjske grane indikatori korena uzroka pro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snovne karakteristike alata s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asan vizuelni prikaz mogućih uzroka pojave koja je predmet posmatranja i posledice njihovog dejst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ezbeđuje se mogućnost analize međusobnog odnosa pojedinih uticaja - uzroka,njihovog značaja za posmatranu posledicu i mesta u ukupnoj strukturi mogućih uzroka - jedan uzrok se može javiti na više mesta u dijagramu (u više različitih grupa uzora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eze uzroka i posledice - međusobne veze uzroka su, u opštem slučaju, kvalitativnog i hipotetičkog karaktera i služe kao podloga za efikasnije rešavanje problema nekom drugom, odgovarajućom meto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edosled aktivnosti kod primene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. Definisanje problema - jasno definisati posledice problema ili greš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. Izbor osnovne strukture - nacrtati "riblju kost" koristeći odgovarajuće familije uzroka, npr. ljudi, oprema, metod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. Razrada dijagrama - razmotriti podfamilije uzroka (koristeći metodu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) i zabeležiti ih na dijagra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4. Postupak širenja - grananja - povećavati nivo detaljnosti za svaki od uzroka na osnovnoj struk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5. Analiza dijagrama - analiza svih uzroka, utvrđivanje nivoa njihovog uticaja i predlaganje korektivnih mera i redosleda primene za njihovo otklanj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35B-81B6-4849-B444-E76B07B837BE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UZROCI - POSLEDICA se u literaturi naziva i ISHIKAWA dijagram (p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ru dijagrama) ili dijagram RIBLJA KOST (po asocijaciji na izgled dijagrama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predstavlja metodu za detaljnu analizu odnosa između određenog s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matranog sistem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led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i uticajnih veličina koje uzrokuju pojavu datog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j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zrok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Metoda je detaljno opisana u knjizi "Metode i tehnike unapređ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 rada" /Vulanović, V., 2003./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je cilj sprovođenja ove metode racionalizacija procesa rada, pod posledic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eba podrazumevati neki problem ili lošu pojavu koja se uočila. Osnovni cilj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u tom slučaju da se identifikuju svi mogući uzroci pojave problema i da se 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ci na pregledan način struktuiraju, kako bi se dobile podloge za sprovođe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ionalizacije. Metoda se obično sprovodi kroz četiri koraka opisana u nastavk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1: Definisanje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najvećem broju slučajeva dijagram UZROCI - POSLEDICA se koristi za slučaj d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za posledicu definiše određeni problem - loš kvalitet dela, sklopa ili proizvod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ava kvara, dugo vreme trajanja ciklusa proizvodnje, nizak koeficijent obr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pitala ... i niz drugih sličnih problema. U tom slučaju je cilj sprovođenja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a je, takođe, situacija da se za posledicu definiše i određeni (željen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ovani) efekat. U datom slučaju se traž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uslova koji v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tvarivanju datog efekta kao posledi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2: Identifikacija uzro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pak identifikacije uzroka koji dovode do napred definisanog problema sastoj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likovanju pregleda svih mogućih uzroka problema koji se analizir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čigledno je da dati pregled može biti rezultat rada pojedinca, grupe 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čnog tima, ali se i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oj fazi preporučuju rezultati prethodno održa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instormng sednice. Pri datom je od značaja da pregled uzroka bu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pletan, odnosno da se unapred ne isključ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 jedan uzrok koji u kasnijoj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izi može rezultirati osnovnom uzročno-posledičnom vez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lasifikaciji uzroka prema karakteru, načinu dejstva i sličnim obeležjima.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oj fazi se skup svih uzroka razvrstava na osnovne grupe i sva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edinačni uzrok loci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dređenu grupu, pri čemu broj grupa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graničen, ali postoje preporuke koje se pre svega odnose na pregl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a i efikasnost metode uopšte. Prim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a broja grup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učaju razmatranja problema lošeg kvaliteta proizvoda kao posledice,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 4M, gde se svi uzroci iz pregleda uzroka lociraju u jednu od grupa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česnici (Manpower), materijali (Materials), postupci rada (Methods)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edstva rada (Machines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3: Razrada dijagr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se crta tako što se posledica (predstavljena pravougaonikom) postavlj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nom delu crteža, a sa leve strane se postavljaju linije dejstva uzroka u oblik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riblje kosti", tj. postavljanjem osnovne linije i bočnih linija, kako je prikazano na sli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4: Anali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se unošenjem u dijagram iscrpe svi identifikovani uzroci i proveri logič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e od grana, pristupa se analizi mogućih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čno se vrš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najverovatnijih uzroka (3 - 5 uzroka) i zatim njihov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ja analiza. Dijagram UZROCI - POSLEDICA posmatran zasebno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voljan za r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a - on samo upućuje na njegove osnovne uzroke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čno - posledične veze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i postupak, pored usmeravanja na osnovne uzroke problema, omogućav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eđenim slučajevima, iznalaženje linije kritičnih uzroka, što je svakako jedan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nih rezultata predmetne metode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 datih razloga je potrebno prikup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taka radi provere najznačajnij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ajverovatnijih) uzroka i rešavanje problema nekom drugom, odgovarajuć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odom (Pareto ili ABC dijagram i sl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Research and Essays Vol. 6(25), pp. 5442-5456, 30 October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online at http://www.academicjournals.org/S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N 1992-2248 ©2011 Academic Jour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ull Length Research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4 model using Ishikawa diagram for quality management in design-and-build 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zah Abdul-Rahman1, Chen Wang2,3* and Calvin Jackson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ademicjournals.org/sre/pdf/pdf2011/30Oct/Abdul-Rahman%20et%20a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Izvor:Milenko Heleta, Dragan Cvetkovic, Osnove inženjerstva i savremene metode u  inženjerstvu, Univerzitet Singidunum, Beograd 2009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crnarupa.singidunum.ac.rs/Elektronska%20biblioteka/I%20godina%202009%20-%2010/FIM/In%C5%BEenjerski%20menad%C5%BEment/Osnove%20in%C5%BEenjerstva%20-%20Prof.%20dr%20Milenko%20Heleta/Osnove%20inzenjerstva%20-%20UDZBENIK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a kontrolna karta je grafički predstavljena kao dijagram. Na horizontalnoj osi nanesen je redosled merenja parametara procesa po vremenu, a na vertikalnoj osi daje se skala jedinice mere čije variranje se proučava. Postoji više vrsta kontrolnih ka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u kontrolnu kartu karakteriše centralna tendencija i kontrolne granice. Kada se variranje procesa odvija u okviru kontrolnih granica - što se potvrđuje položajem tačke unutar tih granica za svaki pojedinčni uzorak koji se proverava - onda se za proces kaže da je stabilan ili da je pod kontrolom. U suprotnom, proces nije stabilan, pa i kad vrednost za samo jednu među desetinama uzoraka pada izvan kontrolnih granica. Primer grafičkog dijagrama jedne kontrolne karte, koji pokazuje broj proizvedenih proizvoda tokom svakog dana u smeni, data je na slici 10.4.5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*Izvor: https://ef.unibl.org/literatura/973845Vjezbe_-_Kontrolne_karte_-_1_dio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e osnovne mogućnosti ovog alata su sljedeć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nje kvalitetom procesa rad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bazi prostorne i vremenske slike stanja, promjena i tendencija kvaliteta sadržanih na kontrolnoj karti,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cilju sprečavanja proizvodnje neusklađenih proizvo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kvaliteta proizvoda u pojedinim fazama proizvodnje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azi pripreme i fazi završetk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iacija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otkrivanja nedopuštenih faktora i njihovog isključivanja iz toka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 tačnosti i stabilnosti procesa ra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vršavanje tehnoloških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sa stanovišta kvalite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šak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rade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oku odvijanja tehnoloških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na u svim fazama nekog procesa (ulazna, procesna, izlazna kontrola i kontrola u eksploataciji) i svim tipovima proizvodnje (maloserijskoj, srednjeserijskoj i masovnoj proizvodnji, izuzev pojedinačn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ntrolne kar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ntrol char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su osnovni alat koji se koristi za statistič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procesom. Kontrolne karte su grafici u kojima se prikazuje ponaš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vremenu i služe za ocenjivanje da li se proces odvija na zadovoljavajuć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čin. Grafici su ograničeni sa statistički izračunatim kontrolnim granica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među kojih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vija proces. Granice služe da najave pojavu problema, odnos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atskih smetnji. Najviše korišćene kontrolne karte su bazirane na 3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m granicama. Tipov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h karata određeni su tipom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 se ispituju, odnosno prirodom podataka koje predstavljaju. Osnovna podel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na kontrolne karte za kontinulnepromenljive i kontrolne karte za atributiv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e. Glavne oblasti primene kontrolnih karata su: kontrolis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spekcija) procesa, pod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, analiza procesa i 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om*. O primeni kontrolnih karti postoji obimna literatura a razvijeni su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verski pake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74F-ECB2-4FC1-B027-AE457B32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664-EBC5-4A54-9A3F-33843FD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6ED-6CB4-4965-A71B-F1B26D1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07E-8470-4D67-98D2-ED52F93E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3F9D-3E43-4D09-8D40-6846320C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327-0101-44A9-8BF3-0DD1F56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66A1-79F6-4EFE-B690-99BA1B6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6D3-0F98-449D-89B5-57449A2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5CD8-2053-4D69-8DF4-EDDDFB3A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7B7-26C7-4686-9E00-18D9FFE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26A-5B21-485E-9C13-F07CA0F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EF9-0BBD-47DB-A369-4709C6B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61A-F06D-445F-A2DD-D182EFE6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B2F8-2B93-4BB7-A5F6-5899C95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E4A1-0B0F-4402-B886-23A3D9D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2C0-31CA-4949-8A50-303CD729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4C25-0DBD-4C3A-B069-E91809BF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21B-2B84-4EBE-8647-39DDAC4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485-AD85-4AAC-A331-E6840F6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3B2-6AC9-4613-B252-1EC30A6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B5B-48AC-44EF-978C-829973D0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4E3-0A42-4349-A0F8-D02B428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C19-201E-437A-A2DE-42B0EA7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E2B-A097-44B3-8B66-667E275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7DD-AEE4-4A2B-A3EA-01FF8BBBB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8ECF-C800-4329-A67E-8AA4AE3C81D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ffff"/>
                </a:solidFill>
                <a:latin typeface="Times New Roman"/>
              </a:rPr>
              <a:t>Alati i metode za upravljanje kvalitetom</a:t>
            </a:r>
            <a:endParaRPr b="0" lang="en-US" sz="3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471400" y="4394160"/>
            <a:ext cx="5684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Content Placeholder 2" descr=""/>
          <p:cNvPicPr/>
          <p:nvPr/>
        </p:nvPicPr>
        <p:blipFill>
          <a:blip r:embed="rId1"/>
          <a:stretch/>
        </p:blipFill>
        <p:spPr>
          <a:xfrm>
            <a:off x="923760" y="1628640"/>
            <a:ext cx="7772400" cy="3467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1187280" y="5516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ffffff"/>
                </a:solidFill>
                <a:latin typeface="Arial"/>
              </a:rPr>
              <a:t>Izvor: https://ef.unibl.org/literatura/973845Vjezbe_-_Kontrolne_karte_-_1_dio.p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Straight Arrow Connector 5"/>
          <p:cNvCxnSpPr/>
          <p:nvPr/>
        </p:nvCxnSpPr>
        <p:spPr>
          <a:xfrm flipH="1">
            <a:off x="6227280" y="1413000"/>
            <a:ext cx="937440" cy="1729440"/>
          </a:xfrm>
          <a:prstGeom prst="straightConnector1">
            <a:avLst/>
          </a:prstGeom>
          <a:ln w="54000">
            <a:solidFill>
              <a:srgbClr val="00cccc"/>
            </a:solidFill>
            <a:miter/>
            <a:tailEnd len="med" type="arrow" w="med"/>
          </a:ln>
        </p:spPr>
      </p:cxnSp>
      <p:sp>
        <p:nvSpPr>
          <p:cNvPr id="175" name="TextBox 9"/>
          <p:cNvSpPr/>
          <p:nvPr/>
        </p:nvSpPr>
        <p:spPr>
          <a:xfrm>
            <a:off x="5668920" y="112536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ffff"/>
                </a:solidFill>
                <a:latin typeface="Times New Roman"/>
              </a:rPr>
              <a:t>Zona neizbjezne disperz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208160"/>
            <a:ext cx="80424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pis tehnik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aritmetička sredin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Kontrolne granice su statističke granice i nisu povezane s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granicama specifikacije (zahtjeva).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Unutar kontrolnih granica se ocekuju (uobicajene) slucajne varij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praćenja procesa crta se dijagram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horizontalnoj osi nanesen je redosljed mjerenja parametara procesa po vremen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vertikalnoj osi daje se skala jedinice mjere parametara čije variranje se proučava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variranje procesa odvija u okviru kontrolnih granica - što se potvrđuje položajem tačke unutar tih granica za svaki pojedinčni uzorak koji se provjerava - onda se za proces kaže da je stabilan ili da je pod kontrol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djela prema sadržaju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mjerne (numeričke) karakteristike (svojstva) kvaliteta- matematićka podloga ovih karata je normalna (Gausova)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atributna svojstv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atematićka podloga ovih karata j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inomna I Puasonova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numeričke karakteristike kvalitet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194616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R kontrolne kart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kao mjeru centriranosti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i  R raspon u uzorcima,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veličine 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25, uobicajeno 2 do 10 jedinica u uzork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20  (broj posmatranj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imjena najčešće za serijsku i velikoserijsku komadnu proizvodnj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s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o mjeru centriranosti proces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tandardno odstupanje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o\e biti promjenljive velicine n≠con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 procesima koji su zaokruženog tipa i koji se odvijaju u cikl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m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proces ne može pratiti dok je ciklus u tok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kontrolne 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odre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đ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im vremenskim intervalima mjeri se karakteristika proi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d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osnovu aritmetičke sredine svih mjerenja crta se centralna lin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ja i gornja granica se sracunavaju kao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ježe se sve izmjerene vrijednosti po redosledu nastaj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880320" y="2832120"/>
            <a:ext cx="224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900" spc="-1" strike="noStrike">
                <a:solidFill>
                  <a:srgbClr val="ffffff"/>
                </a:solidFill>
                <a:latin typeface="Arial"/>
              </a:rPr>
              <a:t>Izvor: http://cent.mas.bg.ac.rs/nastava/statut99/ukp/predavanja/predavanja07.pd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Content Placeholder 5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3105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0" r="6242" b="1357"/>
          <a:stretch/>
        </p:blipFill>
        <p:spPr>
          <a:xfrm>
            <a:off x="476280" y="3981600"/>
            <a:ext cx="4124160" cy="776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2204" b="18704"/>
          <a:stretch/>
        </p:blipFill>
        <p:spPr>
          <a:xfrm>
            <a:off x="604800" y="5008680"/>
            <a:ext cx="3995640" cy="744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639720" y="6119640"/>
            <a:ext cx="3994200" cy="6652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188" name="Picture 6" descr=""/>
            <p:cNvPicPr/>
            <p:nvPr/>
          </p:nvPicPr>
          <p:blipFill>
            <a:blip r:embed="rId4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7" descr=""/>
            <p:cNvPicPr/>
            <p:nvPr/>
          </p:nvPicPr>
          <p:blipFill>
            <a:blip r:embed="rId5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"/>
            <p:cNvPicPr/>
            <p:nvPr/>
          </p:nvPicPr>
          <p:blipFill>
            <a:blip r:embed="rId6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7"/>
          <a:stretch/>
        </p:blipFill>
        <p:spPr>
          <a:xfrm>
            <a:off x="5114880" y="4103640"/>
            <a:ext cx="3894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Content Placeholder 1" descr=""/>
          <p:cNvPicPr/>
          <p:nvPr/>
        </p:nvPicPr>
        <p:blipFill>
          <a:blip r:embed="rId1"/>
          <a:stretch/>
        </p:blipFill>
        <p:spPr>
          <a:xfrm>
            <a:off x="611280" y="1143000"/>
            <a:ext cx="4911480" cy="2925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3348000" y="4316400"/>
            <a:ext cx="4863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200" name="Picture 6" descr=""/>
            <p:cNvPicPr/>
            <p:nvPr/>
          </p:nvPicPr>
          <p:blipFill>
            <a:blip r:embed="rId1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7" descr=""/>
            <p:cNvPicPr/>
            <p:nvPr/>
          </p:nvPicPr>
          <p:blipFill>
            <a:blip r:embed="rId2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8" descr=""/>
            <p:cNvPicPr/>
            <p:nvPr/>
          </p:nvPicPr>
          <p:blipFill>
            <a:blip r:embed="rId3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4"/>
          <a:stretch/>
        </p:blipFill>
        <p:spPr>
          <a:xfrm>
            <a:off x="5421240" y="3971880"/>
            <a:ext cx="3687840" cy="2820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1509840" y="4086360"/>
            <a:ext cx="3662280" cy="614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6"/>
          <a:stretch/>
        </p:blipFill>
        <p:spPr>
          <a:xfrm>
            <a:off x="1379520" y="5111640"/>
            <a:ext cx="3917880" cy="6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7"/>
          <a:stretch/>
        </p:blipFill>
        <p:spPr>
          <a:xfrm>
            <a:off x="1297080" y="6108840"/>
            <a:ext cx="39891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praćenje atributivnih karakteristi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imes New Roman"/>
              </a:rPr>
              <a:t>bazirane su na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brojanju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isprav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u uzorku (ukupan broj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n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procenat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dostataka - defekata u uzorku (ukupan broj defekat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 procenat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defekata po prim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rku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rcRect l="0" t="0" r="0" b="5005"/>
          <a:stretch/>
        </p:blipFill>
        <p:spPr>
          <a:xfrm>
            <a:off x="539640" y="3284640"/>
            <a:ext cx="7945560" cy="273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Analiza kontrolnih kara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06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 (ABC analiz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grafička metoda za rangiranje činilaca- Ime proističe iz jasnog isticanja zona A, B i 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areto dijagram sa vertikalnim stupcima koji prikazuje kategorije u opadajućem redoslijedu po frekvenciji ili veličini s lijeva na desn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(ABC dijagram) 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jčešće korišćeni statistički alat za analizu problema. On grafički sumira podatke u cilju fokusiranja pažnje na glavne razloge pojave određenog rezultata i utvrđivanje odnosa  zmeđu uzroka i posledice (histogram po opadajućem redosledu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sa kumulativnom krivom - k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mulativna distribuciona linija ("cum" linija) je dodatna dimenzija Pareto analize. "Cum" linija pokazuje kumulativnu distribuciju događaja u procentima (ukupan procenat događaja je 100%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pojava i stepena značaj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tvrđivanje kritičnih faktora prema ponderima kritič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mogućih poboljš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ože se koristiti pravilo 70-30 ili 80-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činilaca koji će se analizira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jedinice mjerenje za analizu (br. pojavljivanja, troškovi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ređati kategorije s lijeva na desno po opadajućem redosljedu (najprije nanijeti kategoriju (činilac sa najvećom frekvencijom, pa onda manii it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struisati liniju kumulativne učestal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anje</a:t>
            </a: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 metoda i  alata za upravljanje kvalitetom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280" y="1557360"/>
            <a:ext cx="797076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lati i metod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u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ktične tehnike, vještine, sredstva ili mehanizmi koje je moguće primijeniti za rješavanje specifičnih zad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aka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i problema vezanih z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QM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glavnom se koriste za unapr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đenje procesa (kreiranje, upravljanje, analiza podataka za rešavanje probl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pecifičnost namjene alata i metoda za poboljšanje kvalite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stvaranje ideja (Brainstorm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procesa (Dijagram t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uzroka (Isikava dijagram=dijagram uzrok-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laniranje (QF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ocjenu (Benchmark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rikupljanje i analizu podataka (metode SPC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etode = šema, redosljed, postupak za obavljanje neke djelatnosti (u ovom slucaju za sistemsko i sistematičnu obradu podat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često podrazumijevaju primjenu više al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eduslovi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spješne primjene metoda i alata za upravljanje kvalitetom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tpun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redijeljenost i po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a od strane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Efikasna i pripremljena eduka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stinska potreba za korišćenjem nekog alata ili meto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i ciljevi upotreb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kolina spremna na saradn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vajaju se 3 oblasti: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A – grupa veoma uticajnih svojstava i karakteristika (obuhvata 70-8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B – grupa uticajnih svojstava i karakteristika (obuhvata 90-95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C – grupa manje uticajnih svojstava i karakteristika (obuhvata preostali dio kumulativnog iznosa, a to je 5-1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>
            <a:off x="2835360" y="472428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299880" y="4724280"/>
            <a:ext cx="2333880" cy="21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454720" y="4724280"/>
            <a:ext cx="359712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Bar dijagrami i histogram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Bar dijagram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 -predstavlja sumarno podatke na jednostavan i razumljiv način u obliku grafičkih kolo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Histogram - 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edstavlja vertikalni bar grafik koji prikazuje distribuciju podataka u obliku frekvencija pojavljivanja za specifične vrijednosti podata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stupak izrade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kupljanje podataka i informacija (varijabilni i atributivn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Slaganje podataka u tablicu i njihovo broja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raspona (R) za cijeli uzor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broja razreda (k), i širine razreda (H)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da tablice frekvenci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čun aritmetičke sred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rtanje samog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900000" y="3857760"/>
            <a:ext cx="3184560" cy="294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5364000" y="3836880"/>
            <a:ext cx="32403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ffff"/>
                </a:solidFill>
                <a:latin typeface="Times New Roman"/>
              </a:rPr>
              <a:t>Dijagram rasip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19700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Dijagram rasipanja –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grafički  metod za proučavanje odnosa između dva povezana skup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Crtanjem dijagrama rasipanja dobijamo informacije o postojanju veza kao i o njihovom smjeru, obliku i jačini među zavisnim varijabl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 oblasti kvaliteta provjerava se postojanje relacije izmeđ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arakteristike kvaliteta i faktora koji utiču na n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ije povezane karakteristike kvaliteta i/i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a faktora koja utiču na istu karakteristik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struiše na osnovu prikupljenog skupa parov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apscisi se nanose vrijednosti nezavisno promjenljive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rdinati se nanose vrijednosti zavisno promjenljive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snovu oblaka prikazanih tačaka vizuelno se može uočiti oblik aproksimativne lin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relaciona analiza služi za utvrđivanje jačine veze posmatranih promjenljivih preko proračuna Pirsonovog koeficijenta (može imati vrijednost od -1 do 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egresiona analiza – za pronalaženje matematičkog oblika povezanosti između jedne zavisne i jedne ili više nezavisnih promjenljiv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587680" y="5326200"/>
          <a:ext cx="2050920" cy="14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5326200"/>
                    <a:ext cx="2050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7020000" y="5295960"/>
          <a:ext cx="2124000" cy="15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5295960"/>
                    <a:ext cx="2124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247680" y="5346720"/>
          <a:ext cx="2266920" cy="148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80" y="5346720"/>
                    <a:ext cx="2266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4711680" y="5322960"/>
          <a:ext cx="2308320" cy="152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1680" y="5322960"/>
                    <a:ext cx="2308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IJAGRAM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Svrha -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izacija procesa na grafički način, koja omogućuje identifikaciju slabosti i konflikata u proce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drazumijeva logično raščlanjivanje problema ili aktivnosti na pojedinačne korake gdje su vidljivi početak, tok i kraj proce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nje procesa koji želimo prikazati, odrediti granice procesa tj. gdje on počinje i završa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Raščlanjivanje procesa na aktivnosti. Za svaku aktivnost identifikovati ulaze, izlaze, djelatnosti, načine međusobnog povezivanja i utvrditi odgovorno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diti oznake za proste aktivnosti, aktivnosti preispitivanja i aktivnosti verifikacije i odobrav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ti nosioce svak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drediti redoslijed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aktivnosti sa nosiocima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različite elemente dija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042920" y="1773360"/>
          <a:ext cx="7704360" cy="4591080"/>
        </p:xfrm>
        <a:graphic>
          <a:graphicData uri="http://schemas.openxmlformats.org/drawingml/2006/table">
            <a:tbl>
              <a:tblPr/>
              <a:tblGrid>
                <a:gridCol w="1584360"/>
                <a:gridCol w="61200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ačenje simb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edinačni koraci (zadaci, aktivnos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ispitiv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luka (da-ne, može- ne mož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ak i kraj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kument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elica pokazuje smjer ili tijek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1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1403280" y="2565360"/>
          <a:ext cx="85896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858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4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1476360" y="3933720"/>
          <a:ext cx="7920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933720"/>
                    <a:ext cx="7920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7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403280" y="4653000"/>
          <a:ext cx="7923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4653000"/>
                    <a:ext cx="792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20"/>
          <p:cNvSpPr/>
          <p:nvPr/>
        </p:nvSpPr>
        <p:spPr>
          <a:xfrm>
            <a:off x="2843280" y="1150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474920" y="5229360"/>
          <a:ext cx="72684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4920" y="5229360"/>
                    <a:ext cx="726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3"/>
          <p:cNvSpPr/>
          <p:nvPr/>
        </p:nvSpPr>
        <p:spPr>
          <a:xfrm>
            <a:off x="3780000" y="79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1258920" y="5950080"/>
          <a:ext cx="115236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950080"/>
                    <a:ext cx="1152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ff"/>
                </a:solidFill>
                <a:latin typeface="Times New Roman"/>
              </a:rPr>
              <a:t>Osnovni simboli za izradu dijagrama tok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AutoShape 70"/>
          <p:cNvSpPr/>
          <p:nvPr/>
        </p:nvSpPr>
        <p:spPr>
          <a:xfrm>
            <a:off x="1403280" y="3284640"/>
            <a:ext cx="865080" cy="4316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97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etode pobolj</a:t>
            </a: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anj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 – ustaljen n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 obavljanja nekog pos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jznačajnije metode za poboljšavanje kvalite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PC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MEA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enčmar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QFD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6 Sigma (Six Sig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51280" y="2808360"/>
            <a:ext cx="4753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tatistič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ontrol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proc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(SPC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4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tatistič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pro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SPC) –koristi se za mjerenje promjenljivih u procesu i za utvrđivanje mogućnost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sa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a ostvaruje rezultate (proizvode) određenih performan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ode kontrole su skup metoda i tehnika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ikupljanja podataka (putem kontrolnih lista- obrazaca za prikupljanje podata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rganizovanja i prezentacije podataka (putem bar dijagrama i histogra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Analize i tumačenja podataka (korišćenjem kontrolnih karata, testiranjem hipoteza, korelacionom i regresionom analizom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stvara preduslove z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elazak sa inspekcije na prevenciju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istematsko unapređenje nivoa kvaliteta proizv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laniranje proizvodnje sa nultom gresk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804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MEA je tehnika koja daje odgovor na pitanje: Šta može da otkaže; Kako otkazuje;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lik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čest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ć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da otkazu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e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Koji su efekti otk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Koje su posl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di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tkazivanja po pouzda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o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/ sigurnosti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imjena z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ojektovanje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zradu programa unapređenja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laniranje sistema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risti od FME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eventivno planir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dentifikovanje zahtjeva za izmjen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nje troško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ovećanje efik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 cijene troškova naknadnog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Umanjivanje ukupnih aktivnosti koje ne doprinose dodavanju vrijednosti proce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804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raci primjene za slučaj razvoja novog projek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Analiza projekta: utvrđivanje mogućih grešaka, identifikacija posljedica eventualnih grešaka, identifikovanje uzroka grešaka, analiza sistema kontrole sa aspekta mogućnosti blagovremenog sprečavanja pojave grešaka, utvrđivanje vjerovatnoće nastanka greške za svaki uzrok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postojećeg stanja:kroz proračun (bodovnu ocjenu od 1-9) koeficijenata rizika i koeficijent prioriteta rizika (KPR=R1*R2*R3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1 -Faktor rizika pojave greške- vjerovatnoće nastank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2- Faktor rizika posljedice greške – značajnost ili težina greš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3- Faktor rizika neotkrivanja greške – mogućnost otkrivanj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PR- Koeficijent prioriteta rizika – stepen rizičnosti projektnog rješe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ntrola FMEA  sa aspekta tačnosti i sa aspekta ocjene projekta (KPR mora biti manje od kritičnih vrijednosti koje su određene u rasponu od 1-10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Planiranje i sprovođenje korektivnih mjera na projektu (eliminisanje mogućih uzroka greške, ublažavanje mogućih posljedica i/ili povećanje vjerovatnoće blagovremenog otkrivanja greš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rezultata korektivnih mjera i ocjena uticaja na smanjenje koeficijenta prioriteta rizika KP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Sistematizacija alata za upravljanje kvalitetom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ontrolne liste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klists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)- obrasci za prikupljanje ili provjeru podataka  u formi tabela ili liste pitanj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uzrok/posljedica- Ishikawa diagram-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služi za  detaljnu analizu odnosa između stanja sisema i uticajnih faktora (uzročnika) na to sta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–grafici u kojima se prikazuje ponašanje procesa u vremenu i služe za ocenjivanje da li se proces odvija na zadovoljavajući nač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areto (ABC) dijagrami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Histogra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ka procesa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no prikazivanje odvijanja procesnih koraka, sa definisanim nosiocima aktivnosti, izlaznim dokumentima i mjestima preispitivanja i odlu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2260440" y="1946160"/>
            <a:ext cx="559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38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55280" y="1052640"/>
            <a:ext cx="818676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sistematski i kontinuirani proces m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re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uporedjivanja poslovnih procesa jedne organizacije u odnosu na poslovne procese lidera radi dobija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cija koje će pomoći organizaciji da preduzm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kciju za poboljšanje svojih performansi.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erič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cent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za produktivnost i kvalite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QC)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Benchmarking predstavlja kontinuiranu aktivnost poređenja procesa, proizvoda ili usluga sa sličnom aktivnošću poznatu kao najbolju u tom polju, sa svrhom uspostavljanja ambicioznih ali realnih ciljeva unapređenja i akc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kontinuirani proces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edjenja proizvoda, usluga i procesa u odnosu 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jjače konkuren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Osnovni tipovi benčmarking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nterni – porede se delovi u okviru jedn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Konkurentski-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ompetitivn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, eksterni) – preduzeće se poredi sa konkurentima u funkciji dobijanja slike o poslovanju drugih (direktni konkurenti ili e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valentne organizacije koje rade u drugim zemljama i opslužuju druga tržiš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Funkcionalni – preduzeće poredi neku od svojih funkcija sa funkcijama nekonkurentsk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Generički – poređenje na nivou različitih industr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356000" y="5732640"/>
            <a:ext cx="259236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832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 - postupak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9280" y="1292400"/>
            <a:ext cx="575784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značajnoj mjeri podudara sa PDCA cikluso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iranje se sastoji od koraka: odrediti što se prikazuje referentnim vrijednostima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ključne pokazatelje djelatnosti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partnera za benchmarking, utvrditi metodu prikupljanja podata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 .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Najznačajnija pitanja na koja treba odgovoriti u ovoj fazi su: koji se proizvodi porede, koji procesi se porede, koje funkcije se porede, kakav će biti način prikupljanja i obrade informacija, kako odabrati druge organizacije za poređenje.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zvođenje;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podrazumijeva organizovanje benčmarkinga – terensko prikupljanje podataka, posjetu drugim organizacijama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iz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obuhvat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tizaciju saznanja i njjihovu primjenu u obliku određenih uputstava koja će se primenjivati, kao i njihovo mjerenje i usaglašavanaje., odnosno obuhvat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epoznavanje slabih 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čaka u radu i predviđanje budućeg djelovanja;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aopštav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zult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, odobre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t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lj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kcional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ilje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lano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Glavno pitanje na koje treba dati odgovor u ovoj fazi je: šta smo naučili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kcij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 i nadgleda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oboljšanja, mjer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zultate prema željama i potrebama i provjeriti referentne vrijednosti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37120" y="1946160"/>
            <a:ext cx="300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6054840" y="646200"/>
            <a:ext cx="3089160" cy="6037200"/>
            <a:chOff x="6054840" y="646200"/>
            <a:chExt cx="3089160" cy="6037200"/>
          </a:xfrm>
        </p:grpSpPr>
        <p:pic>
          <p:nvPicPr>
            <p:cNvPr id="278" name="Picture 9" descr=""/>
            <p:cNvPicPr/>
            <p:nvPr/>
          </p:nvPicPr>
          <p:blipFill>
            <a:blip r:embed="rId1"/>
            <a:stretch/>
          </p:blipFill>
          <p:spPr>
            <a:xfrm>
              <a:off x="6054840" y="646200"/>
              <a:ext cx="308916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0" descr=""/>
            <p:cNvPicPr/>
            <p:nvPr/>
          </p:nvPicPr>
          <p:blipFill>
            <a:blip r:embed="rId2"/>
            <a:stretch/>
          </p:blipFill>
          <p:spPr>
            <a:xfrm>
              <a:off x="6066720" y="3382920"/>
              <a:ext cx="3006000" cy="330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Razvijanje funkcije kvaliteta (QFD) – “Kuće kvaliteta”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899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zvijena u Kobeu (Japan) 70-tih godina, u brodogradilištu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tsubishi, ali je ubrzo našla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i u drugim granama industrije. Toyota 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risti još od 1973. godine, a kasnije je prihvata i Honda (1979.), Ford (1983.),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vo i Saab (1987.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iru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u razvijenim zemljama zapadne Evrope i US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a dostiže 1991. god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voj ili redizajn proizvoda zasnovan na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ma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ezb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je procesno fokusiranje na kupce i njihove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 u svim faz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etvaranje </a:t>
            </a:r>
            <a:r>
              <a:rPr b="1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zahtjeva kupaca </a:t>
            </a: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u karakteristike proizvoda (prv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proizvoda /usluge u karakteristike komponenti (drug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komponenti u tehnologiju izrade -karakteristike procesa (treć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procesa u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radna uputstva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(četvrt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moviše višefunkcionalni timski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d i konkurentni inženjering u kompaniji. Skraćenje vremena razvoja proizvo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stem planiranja kroz proces razvoja proizvoda, od inicijalnog planiranja proizvoda, kroz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aljan plan razvoja proizvoda, proces planiranja i finalno planiranje proizvodn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Sastoji se od listi na kojima se definiše “šta” i druge liste na kojoj se definiše “kak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Ograničenja primj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Veliki broj zaht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ličite grupe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33240" y="2903400"/>
            <a:ext cx="166860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 rot="5400000">
            <a:off x="20664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 rot="16200000">
            <a:off x="-729000" y="4045320"/>
            <a:ext cx="2652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htjevi kup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33240" y="2371680"/>
            <a:ext cx="166860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nžinjers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63480" y="1690560"/>
            <a:ext cx="16178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935440" y="2903400"/>
            <a:ext cx="16714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51172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 rot="16200000">
            <a:off x="1380960" y="3905280"/>
            <a:ext cx="26524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nžinjerske karakterosti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935440" y="2371680"/>
            <a:ext cx="167148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dijelo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2940120" y="1690560"/>
            <a:ext cx="16412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4848120" y="2903400"/>
            <a:ext cx="195264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6"/>
          <p:cNvSpPr/>
          <p:nvPr/>
        </p:nvSpPr>
        <p:spPr>
          <a:xfrm rot="5400000">
            <a:off x="467100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7"/>
          <p:cNvSpPr/>
          <p:nvPr/>
        </p:nvSpPr>
        <p:spPr>
          <a:xfrm rot="16200000">
            <a:off x="3518640" y="4042440"/>
            <a:ext cx="26524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arakteristike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4848120" y="2371680"/>
            <a:ext cx="1952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per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4851360" y="1690560"/>
            <a:ext cx="192420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7180200" y="2903400"/>
            <a:ext cx="17128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1"/>
          <p:cNvSpPr/>
          <p:nvPr/>
        </p:nvSpPr>
        <p:spPr>
          <a:xfrm rot="5400000">
            <a:off x="676008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5875200" y="3908160"/>
            <a:ext cx="26528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 oper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7182000" y="2371680"/>
            <a:ext cx="1709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Zahtjev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oizvod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4"/>
          <p:cNvSpPr/>
          <p:nvPr/>
        </p:nvSpPr>
        <p:spPr>
          <a:xfrm>
            <a:off x="7182000" y="1690560"/>
            <a:ext cx="17096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92088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225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5241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7473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9"/>
          <p:cNvSpPr/>
          <p:nvPr/>
        </p:nvSpPr>
        <p:spPr>
          <a:xfrm rot="2378400">
            <a:off x="2092320" y="246348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30"/>
          <p:cNvSpPr/>
          <p:nvPr/>
        </p:nvSpPr>
        <p:spPr>
          <a:xfrm rot="2378400">
            <a:off x="4381560" y="251280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31"/>
          <p:cNvSpPr/>
          <p:nvPr/>
        </p:nvSpPr>
        <p:spPr>
          <a:xfrm rot="2378400">
            <a:off x="6659280" y="2491920"/>
            <a:ext cx="426960" cy="303480"/>
          </a:xfrm>
          <a:prstGeom prst="rightArrow">
            <a:avLst>
              <a:gd name="adj1" fmla="val 50000"/>
              <a:gd name="adj2" fmla="val 351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212760" y="56340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uć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2184480" y="5634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Razvoj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4782960" y="56340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6694560" y="5634000"/>
            <a:ext cx="21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izvod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84360" y="47628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Transfer kupčevih zahtjeva u proizvodnju kroz QF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Zairi, 1999, str. 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Kuća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Line 3"/>
          <p:cNvSpPr/>
          <p:nvPr/>
        </p:nvSpPr>
        <p:spPr>
          <a:xfrm flipV="1">
            <a:off x="2916360" y="4005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1908000" y="1341360"/>
            <a:ext cx="6254640" cy="4652280"/>
            <a:chOff x="1908000" y="1341360"/>
            <a:chExt cx="6254640" cy="4652280"/>
          </a:xfrm>
        </p:grpSpPr>
        <p:pic>
          <p:nvPicPr>
            <p:cNvPr id="317" name="Picture 5" descr=""/>
            <p:cNvPicPr/>
            <p:nvPr/>
          </p:nvPicPr>
          <p:blipFill>
            <a:blip r:embed="rId1"/>
            <a:srcRect l="7680" t="0" r="2807" b="0"/>
            <a:stretch/>
          </p:blipFill>
          <p:spPr>
            <a:xfrm>
              <a:off x="1908000" y="1341360"/>
              <a:ext cx="62546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6"/>
            <p:cNvSpPr/>
            <p:nvPr/>
          </p:nvSpPr>
          <p:spPr>
            <a:xfrm>
              <a:off x="5703480" y="203220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marketing informacije i ocjena korisnika-kupca postojeceg proizvoda u odnosu na one na trzistu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 flipV="1">
              <a:off x="5414760" y="26078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4838400" y="5488200"/>
              <a:ext cx="1513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Tehnicko uporedjenje sa proizvodima konkurentskih firm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 flipH="1" flipV="1">
              <a:off x="4406760" y="527184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10"/>
          <p:cNvSpPr/>
          <p:nvPr/>
        </p:nvSpPr>
        <p:spPr>
          <a:xfrm>
            <a:off x="539640" y="5950080"/>
            <a:ext cx="8280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uće kvaliteta predstavljaju matrice koje se formiraju tako da u svakoj fazi imaju is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snovni izgled. Na ulazu u "kuću kvaliteta", u l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oj koloni, uv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k je pitanje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Š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a?", a na izlazu iz "kuće kvaliteta" uvek je odgovor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KO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puni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?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Izgled “kuće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692360" y="1268280"/>
            <a:ext cx="5832360" cy="5329440"/>
            <a:chOff x="1692360" y="1268280"/>
            <a:chExt cx="5832360" cy="5329440"/>
          </a:xfrm>
        </p:grpSpPr>
        <p:grpSp>
          <p:nvGrpSpPr>
            <p:cNvPr id="326" name="Group 2"/>
            <p:cNvGrpSpPr/>
            <p:nvPr/>
          </p:nvGrpSpPr>
          <p:grpSpPr>
            <a:xfrm>
              <a:off x="1692360" y="2948040"/>
              <a:ext cx="936720" cy="2779560"/>
              <a:chOff x="1692360" y="2948040"/>
              <a:chExt cx="936720" cy="2779560"/>
            </a:xfrm>
          </p:grpSpPr>
          <p:sp>
            <p:nvSpPr>
              <p:cNvPr id="327" name="Rectangle 3"/>
              <p:cNvSpPr/>
              <p:nvPr/>
            </p:nvSpPr>
            <p:spPr>
              <a:xfrm>
                <a:off x="1692360" y="2948040"/>
                <a:ext cx="936720" cy="2779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4"/>
              <p:cNvSpPr/>
              <p:nvPr/>
            </p:nvSpPr>
            <p:spPr>
              <a:xfrm rot="16200000">
                <a:off x="860760" y="412596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1. ZAHTJEVI KUPAC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5"/>
            <p:cNvGrpSpPr/>
            <p:nvPr/>
          </p:nvGrpSpPr>
          <p:grpSpPr>
            <a:xfrm>
              <a:off x="2916360" y="2948040"/>
              <a:ext cx="3384360" cy="2779560"/>
              <a:chOff x="2916360" y="2948040"/>
              <a:chExt cx="3384360" cy="2779560"/>
            </a:xfrm>
          </p:grpSpPr>
          <p:sp>
            <p:nvSpPr>
              <p:cNvPr id="330" name="Rectangle 6"/>
              <p:cNvSpPr/>
              <p:nvPr/>
            </p:nvSpPr>
            <p:spPr>
              <a:xfrm>
                <a:off x="2916360" y="2948040"/>
                <a:ext cx="3384360" cy="27795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7"/>
              <p:cNvSpPr/>
              <p:nvPr/>
            </p:nvSpPr>
            <p:spPr>
              <a:xfrm>
                <a:off x="3563640" y="3875040"/>
                <a:ext cx="22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4. MEĐUODNOS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"/>
            <p:cNvGrpSpPr/>
            <p:nvPr/>
          </p:nvGrpSpPr>
          <p:grpSpPr>
            <a:xfrm>
              <a:off x="6588000" y="2948040"/>
              <a:ext cx="936720" cy="2779560"/>
              <a:chOff x="6588000" y="2948040"/>
              <a:chExt cx="936720" cy="2779560"/>
            </a:xfrm>
          </p:grpSpPr>
          <p:sp>
            <p:nvSpPr>
              <p:cNvPr id="333" name="Rectangle 9"/>
              <p:cNvSpPr/>
              <p:nvPr/>
            </p:nvSpPr>
            <p:spPr>
              <a:xfrm>
                <a:off x="6588000" y="2948040"/>
                <a:ext cx="936720" cy="27795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 rot="16200000">
                <a:off x="5756040" y="4184280"/>
                <a:ext cx="254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2. MATRICA PLANIRANJ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1"/>
            <p:cNvGrpSpPr/>
            <p:nvPr/>
          </p:nvGrpSpPr>
          <p:grpSpPr>
            <a:xfrm>
              <a:off x="2916360" y="2133720"/>
              <a:ext cx="3384360" cy="693720"/>
              <a:chOff x="2916360" y="2133720"/>
              <a:chExt cx="3384360" cy="693720"/>
            </a:xfrm>
          </p:grpSpPr>
          <p:sp>
            <p:nvSpPr>
              <p:cNvPr id="336" name="Rectangle 12"/>
              <p:cNvSpPr/>
              <p:nvPr/>
            </p:nvSpPr>
            <p:spPr>
              <a:xfrm>
                <a:off x="2916360" y="2133720"/>
                <a:ext cx="3384360" cy="693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Text Box 13"/>
              <p:cNvSpPr/>
              <p:nvPr/>
            </p:nvSpPr>
            <p:spPr>
              <a:xfrm>
                <a:off x="3348000" y="2307240"/>
                <a:ext cx="273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3. TEHNIČKE KARAKTERISTIK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AutoShape 15"/>
            <p:cNvSpPr/>
            <p:nvPr/>
          </p:nvSpPr>
          <p:spPr>
            <a:xfrm>
              <a:off x="2916360" y="1268280"/>
              <a:ext cx="3457440" cy="78912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16"/>
            <p:cNvSpPr/>
            <p:nvPr/>
          </p:nvSpPr>
          <p:spPr>
            <a:xfrm>
              <a:off x="3419640" y="1484280"/>
              <a:ext cx="25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Arial"/>
                </a:rPr>
                <a:t>5. KORELACIONA MATRICA (KROV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17"/>
            <p:cNvGrpSpPr/>
            <p:nvPr/>
          </p:nvGrpSpPr>
          <p:grpSpPr>
            <a:xfrm>
              <a:off x="2916360" y="5843520"/>
              <a:ext cx="3384360" cy="754200"/>
              <a:chOff x="2916360" y="5843520"/>
              <a:chExt cx="3384360" cy="75420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2916360" y="5843520"/>
                <a:ext cx="3384360" cy="75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9"/>
              <p:cNvSpPr/>
              <p:nvPr/>
            </p:nvSpPr>
            <p:spPr>
              <a:xfrm>
                <a:off x="3203280" y="6077160"/>
                <a:ext cx="2952360" cy="307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6. CILJNE VRIJEDNOST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ffff"/>
                </a:solidFill>
                <a:latin typeface="Times New Roman"/>
              </a:rPr>
              <a:t>Postupak izrade QFD analize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258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ormiranje multifunkcionalnog tim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stručnjaka koji učestvuju u razvoju proizvoda kroz različite procese (marketing, razvoj, projektovanje, nabavka, izvođenje/proizvodnja, obezbeđenje kvaliteta itd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1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značajnih karakteristik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ijentacija tima prema procesu i ciljevima. Upoznavanje članova tima sa podacima potreba i kupca (glas kupca) koji predstavljaju lijevu (1) i desnu stranu (6) redova kuće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zahtjeva kupa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utvrđenih zahtjeva prema važ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reiranje karakteristika proizvoda sa mjerljivim performansama koje se unose na kolone (2) na vrhu matrice – timski rad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dizajnerskih i tehničkih rješen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vezivanje performansi proizvoda sa potrebama kupca (glasa kupca sa glasom kompanije). Međusobne veze se ocjenjuju: 4 - jake veze, 3 - srednje veze, 2 - slabe veze, i 1 - nema vez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tvrđivanje međusobnih odnosa (3) između različitih performansi proizvoda u kući kvaliteta (krov kvaliteta), na osnovu prethodno utvrđenih veza. Ocjene veza: 4 - jako pozitivni, 3 - pozitivni, 2 - negativni, i 1 - jako negativn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ioritizacija rešenja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najvažnijih dizajnerskih i tehničkih rješenja)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- završna faza u QFD procesu uključuje izradu matričnih kalkulacija, identifikaciju najviših prioriteta, razvoj specifičnih karakteristika, rešenja, procesa i programa za njihovo unapređenje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2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d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ov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3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parametara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4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postup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Faza 1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Utvrđivanje značajnih karakteristika proizvo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3272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računarske sale na univerzitetu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1750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3"/>
          <p:cNvGrpSpPr/>
          <p:nvPr/>
        </p:nvGrpSpPr>
        <p:grpSpPr>
          <a:xfrm>
            <a:off x="3564000" y="4581360"/>
            <a:ext cx="4895280" cy="2276280"/>
            <a:chOff x="3564000" y="4581360"/>
            <a:chExt cx="4895280" cy="2276280"/>
          </a:xfrm>
        </p:grpSpPr>
        <p:pic>
          <p:nvPicPr>
            <p:cNvPr id="350" name="Picture 30" descr=""/>
            <p:cNvPicPr/>
            <p:nvPr/>
          </p:nvPicPr>
          <p:blipFill>
            <a:blip r:embed="rId2"/>
            <a:stretch/>
          </p:blipFill>
          <p:spPr>
            <a:xfrm>
              <a:off x="3564000" y="4598280"/>
              <a:ext cx="4895280" cy="22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32"/>
            <p:cNvSpPr/>
            <p:nvPr/>
          </p:nvSpPr>
          <p:spPr>
            <a:xfrm>
              <a:off x="6790680" y="4581360"/>
              <a:ext cx="1666440" cy="48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Kontrolne liste (cheklists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ne liste (cheklsits)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= obrasci z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 prikupljanje podatak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ostupak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Utvrđivanje cilja prikupljanja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dentifikovanje potrebn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Određivanje načina, perioda i mjesta prikuplj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zrada obras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ovjera obrasca prikupljanjem i zapisivanjem nek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eispitivanje i revidiranje obrasca ako je potreb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187280" y="1946160"/>
            <a:ext cx="6909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atrica međuodnos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2124000" y="1897200"/>
            <a:ext cx="5872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ehnička matric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1619280" y="1946160"/>
            <a:ext cx="6012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rov kuće kvalitet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9770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Koncept šest sigma (Six sigma, 6</a:t>
            </a:r>
            <a:r>
              <a:rPr b="0" lang="el-GR" sz="2400" spc="-1" strike="noStrike">
                <a:solidFill>
                  <a:srgbClr val="00ffff"/>
                </a:solidFill>
                <a:latin typeface="Arial"/>
                <a:ea typeface="Arial"/>
              </a:rPr>
              <a:t>σ</a:t>
            </a: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unapređenje poslovanja zasnovano na pronalaženju i eliminisanju grešaka i uzroka pojave grešaka ili defekata u procesima, usredsređivanjem pažnje na izlazne parametre,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kritičn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važne za korisnik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strategijski prilaz za sve procese, proizvode i kompanije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Six Sigma koncept je razvijen kod Moorole sredinom 1980-tih godina za analizu njihovih procesa proizvodnje i eliminaciju defekat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Glavna područja na koja se usredsređuje šest sigma su: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zadovoljstva korisnika;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ciklusa vremena 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anjenje grešaka proizvod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tatistički gledano "Šest sigma" predstavlja iznos varijacije prikazane u procesu koji je povezan sa zahtevima korisnika ili njihovim specifikacijama . Kada proces deluje na nivou "Šest sigma", varijacija je tako mala da rezultira tačnošću od 99,9997 % ili pojavom samo 3,4 greške na milion mogućnos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"Šest sigma" metodologija je fokusirana na jedan cilj: osigurati da su proizvodi i usluge blizu savršenstva. Da bi se to postiglo koriste se stroge statističke tehnike i metodologije, bazirane na merljivim podacima, kojima je cilj kontrola kvalit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Za poboljšanje organizacijskog nivoa "Šest sigma" procesa potrebno je smanjiti količinu varijacija koje se pojavljuju. Postojanje manjeg broja varijacija donosi sledeće prednosti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olja predvidivost procesa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liminacije grešaka na najmanjem mogućem nivou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vremen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troškov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produktivnosti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Metodologija primjene šest sigm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vi glavni problemi u okviru šest sigme rešavaju se pomoću metodologije DMAIC (Define - definisanje ili određivanje, Measure - merenje, Analyze - analiziranje, Improve - poboljšanje ili unapređenje i Controle - kontrola ili upravljanje). Ovom metodom mogu se naučiti tehnike: kako prikupiti podatke, koliko ih koristiti i koliko ih često prebrojiti i kako biti fleksibila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896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Dijagram uzrok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-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 posljedica (Ishikawa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dijagram, d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ijagram riblja kost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31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ncipi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elekcija: definisanje stanja sistema (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vrstavanje: gruupisanje i rangiranje uzroka (uticajnih faktora na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vezivanje: logičko povezivanje uzroka (uticajnih faktora) i posljedica (stanja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 sistemstko istraživanje i identifikaciju glavnih uzroka određenog proble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snovni koraci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je (određivanje) problema (ovo može biti i cilj, ili željeno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nje (određivanje) glavnih uzroka (kategorija=familija uzr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ređivanje poduzroka, najdalje do trećeg nivo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Jasno definisati posljedice, odnosno problem, odnosno željeno sstanje sistema)- upisuje se na desnoj strani i od njega se vuče ulijevo horizontalna linija („kičma” dijagra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ti i razvrstati moguće uzroke po kategorijama (ljudi, okruženje, oprema, metode...)- predvidjeti od 3 do 8 kategorija uzro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crtati "riblju kost" koristeći odgovarajuće kategorije (familije) uzroka, npr. ljudi, okruženje, oprema, metode..., spajajući ih sa kičmom dijagra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motriti podfamilije uzroka (koristeći na primjer metodu Brainstorming) i zabilježiti ih na dijagram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širenja - grananja - povećavati nivo detaljnosti za svaki od uzroka na osnovnoj strukturi, spajajući ih horizontalnim linijama sa glavnom sstrelicom grupe uzroka (ne ići više od 3 nivo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naliza dijagrama - analiza svih uzroka, utvrđivanje nivoa njihovog uticaja (dodjeljivanjem težinskih koeficijenata najprijena glavne grane, a zatim na niže nivoe i preračun relativnih težina koje odgovaraju pojedinačnim faktorima)) i predlaganje korektivnih mjera i redosljeda primjene za njihovo otklanjan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sa 5 grupa uzr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DIJAGRAMA ZA ANALIZU PRETJERANE POTROŠNJE GORI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2824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primjene isikava dijagrama za upravljanje kvalitetom u „projektuj i izgradi“ projek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116000" y="1782720"/>
            <a:ext cx="71280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4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ne karte: grafici u kojima se prikazuje ponašanje procesa u vremenu i služe za ocenjivanje da li se proces odvija na zadovoljavajući nač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vio je Shewhart 1920. godine da bi razlikovao slučajne od sistemskih varijacija*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običajeni (slučajni) uzroci varijacija: metode, materijali, mašine, ljudi i sredina ili osvetljenje u fabrici,  klasa potrebnog  sirovog materijala,  obučenost radnika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ebni ili specifični (sistemske varijacije) uzroci varijacija: radnik slučajno napravi grešku na kontrolnoj tabli, radnik se razboli na poslu i nastavi da radi, mašina se rašteluje, nepažljivi dobavljač isporuči seriju materijala lošeg kvaliteta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imjena -svakodnevno praćenje parametara procesa i za signalizaciju kada proces pređe utvrđene granice – detektovanje sistema koji su van kontr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Slučajevi korišćenj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ijagnoza: ocenjivanje stabilnosti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a: odrediti kada je proces potrebno korigovati (podesiti) ili kada ga je, u postojećem obliku, potrebno napusti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tvrda: potvrditi da li je, nakon izvršenih zahvata - korekcija, došlo do poboljšanja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upak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ređivanje središnje linije (na osnovu aritmetičkih sredina uzoraka (svaki uzorak obuhvata po nekoliko jedin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čunavanje kontrolnih granica (na osnovu zakona vjerovatnoć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Crtanje kontrolne karte (na osnovu prikupljenih statističkih podataka tokom vreme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iza 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2:15:49Z</dcterms:created>
  <dc:creator>Gradjevinski fakultet Podgorica</dc:creator>
  <dc:description/>
  <dc:language>en-US</dc:language>
  <cp:lastModifiedBy>Toshiba</cp:lastModifiedBy>
  <dcterms:modified xsi:type="dcterms:W3CDTF">2019-05-12T20:01:50Z</dcterms:modified>
  <cp:revision>458</cp:revision>
  <dc:subject/>
  <dc:title>Alati i metode za upravljanje kvalitetom</dc:title>
</cp:coreProperties>
</file>